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8438-0D31-41A6-8142-F9CD35CFD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A40-4CF0-4A8A-9F79-AAEC5A879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9A15-AF3E-43DE-8B40-08B53D9B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8C06-C68E-48D4-A224-B169F9838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B2C7-EFA7-42DB-AC3D-E77B2B326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E26F0-EA9F-464F-B91E-E6B1289EC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9886-DFBC-4439-BA86-89DF7D094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00C89-9F73-48DB-AF21-D79FCDAFC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244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6068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56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244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6068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C2C5D-6D83-463D-BB86-0FA2E60EF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631AC-399E-4102-B4EC-6F7A605D7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244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0680" y="134100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456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244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0680" y="3346920"/>
            <a:ext cx="2788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5A6D-53EA-47C5-AFE5-FC77BE16F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ACBF-8526-4F74-9E3E-A25C78240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6691-61A0-494D-AF18-236F3723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3160" y="152280"/>
            <a:ext cx="83818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59E7-F4ED-4BB4-AD88-46B617F028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B3B5-F903-41D7-9777-695BBBFBB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1920" y="334692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5726-5781-445D-9029-4065EC9BB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105480"/>
            <a:ext cx="83818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1920" y="1341000"/>
            <a:ext cx="4225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3346920"/>
            <a:ext cx="86598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5907-1B3A-4225-8093-79E8790EC3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11C5-3B1D-44E8-A442-6F9B8A59B3A6}" type="slidenum">
              <a:rPr b="1" lang="en-GB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380880" y="6324480"/>
            <a:ext cx="3811680" cy="1368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30"/>
          <p:cNvGrpSpPr/>
          <p:nvPr/>
        </p:nvGrpSpPr>
        <p:grpSpPr>
          <a:xfrm>
            <a:off x="76320" y="76320"/>
            <a:ext cx="533160" cy="658800"/>
            <a:chOff x="76320" y="76320"/>
            <a:chExt cx="533160" cy="658800"/>
          </a:xfrm>
        </p:grpSpPr>
        <p:sp>
          <p:nvSpPr>
            <p:cNvPr id="5" name="Rectangle 20"/>
            <p:cNvSpPr/>
            <p:nvPr/>
          </p:nvSpPr>
          <p:spPr>
            <a:xfrm>
              <a:off x="76320" y="457560"/>
              <a:ext cx="244440" cy="277560"/>
            </a:xfrm>
            <a:prstGeom prst="rect">
              <a:avLst/>
            </a:prstGeom>
            <a:solidFill>
              <a:srgbClr val="0550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152280" y="381240"/>
              <a:ext cx="228600" cy="228600"/>
            </a:xfrm>
            <a:prstGeom prst="rect">
              <a:avLst/>
            </a:prstGeom>
            <a:solidFill>
              <a:srgbClr val="e5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1"/>
            <p:cNvSpPr/>
            <p:nvPr/>
          </p:nvSpPr>
          <p:spPr>
            <a:xfrm>
              <a:off x="363600" y="76320"/>
              <a:ext cx="245880" cy="281160"/>
            </a:xfrm>
            <a:prstGeom prst="rect">
              <a:avLst/>
            </a:prstGeom>
            <a:solidFill>
              <a:srgbClr val="afc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7"/>
            <p:cNvSpPr/>
            <p:nvPr/>
          </p:nvSpPr>
          <p:spPr>
            <a:xfrm>
              <a:off x="266760" y="196920"/>
              <a:ext cx="243000" cy="250920"/>
            </a:xfrm>
            <a:prstGeom prst="rect">
              <a:avLst/>
            </a:prstGeom>
            <a:solidFill>
              <a:srgbClr val="fff9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Rectangle 29"/>
          <p:cNvSpPr/>
          <p:nvPr/>
        </p:nvSpPr>
        <p:spPr>
          <a:xfrm>
            <a:off x="5105520" y="6324480"/>
            <a:ext cx="3809880" cy="1368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" name="Object 31"/>
          <p:cNvGraphicFramePr/>
          <p:nvPr/>
        </p:nvGraphicFramePr>
        <p:xfrm>
          <a:off x="4419720" y="6172200"/>
          <a:ext cx="533160" cy="50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6172200"/>
                    <a:ext cx="53316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34920" y="3200400"/>
            <a:ext cx="538200" cy="466560"/>
          </a:xfrm>
          <a:prstGeom prst="rect">
            <a:avLst/>
          </a:prstGeom>
          <a:solidFill>
            <a:srgbClr val="fffa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28"/>
          <p:cNvGrpSpPr/>
          <p:nvPr/>
        </p:nvGrpSpPr>
        <p:grpSpPr>
          <a:xfrm>
            <a:off x="147600" y="1333440"/>
            <a:ext cx="2594160" cy="2476440"/>
            <a:chOff x="147600" y="1333440"/>
            <a:chExt cx="2594160" cy="2476440"/>
          </a:xfrm>
        </p:grpSpPr>
        <p:sp>
          <p:nvSpPr>
            <p:cNvPr id="50" name="Rectangle 8"/>
            <p:cNvSpPr/>
            <p:nvPr/>
          </p:nvSpPr>
          <p:spPr>
            <a:xfrm>
              <a:off x="1101600" y="1805040"/>
              <a:ext cx="547920" cy="520560"/>
            </a:xfrm>
            <a:prstGeom prst="rect">
              <a:avLst/>
            </a:prstGeom>
            <a:solidFill>
              <a:srgbClr val="196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763640" y="1438200"/>
              <a:ext cx="546120" cy="46692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565200" y="3260880"/>
              <a:ext cx="546120" cy="466560"/>
            </a:xfrm>
            <a:prstGeom prst="rect">
              <a:avLst/>
            </a:prstGeom>
            <a:solidFill>
              <a:srgbClr val="f0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1"/>
            <p:cNvSpPr/>
            <p:nvPr/>
          </p:nvSpPr>
          <p:spPr>
            <a:xfrm>
              <a:off x="1630440" y="1800360"/>
              <a:ext cx="546120" cy="520560"/>
            </a:xfrm>
            <a:prstGeom prst="rect">
              <a:avLst/>
            </a:prstGeom>
            <a:solidFill>
              <a:srgbClr val="3d40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673200" y="2336760"/>
              <a:ext cx="546120" cy="482760"/>
            </a:xfrm>
            <a:prstGeom prst="rect">
              <a:avLst/>
            </a:prstGeom>
            <a:solidFill>
              <a:srgbClr val="3964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1216080" y="2286000"/>
              <a:ext cx="536400" cy="482760"/>
            </a:xfrm>
            <a:prstGeom prst="rect">
              <a:avLst/>
            </a:prstGeom>
            <a:solidFill>
              <a:srgbClr val="b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147600" y="2743200"/>
              <a:ext cx="538200" cy="460440"/>
            </a:xfrm>
            <a:prstGeom prst="rect">
              <a:avLst/>
            </a:prstGeom>
            <a:solidFill>
              <a:srgbClr val="7b7d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5"/>
            <p:cNvSpPr/>
            <p:nvPr/>
          </p:nvSpPr>
          <p:spPr>
            <a:xfrm>
              <a:off x="539640" y="2800440"/>
              <a:ext cx="546120" cy="460440"/>
            </a:xfrm>
            <a:prstGeom prst="rect">
              <a:avLst/>
            </a:prstGeom>
            <a:solidFill>
              <a:srgbClr val="484b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6"/>
            <p:cNvSpPr/>
            <p:nvPr/>
          </p:nvSpPr>
          <p:spPr>
            <a:xfrm>
              <a:off x="900000" y="3211560"/>
              <a:ext cx="547920" cy="469800"/>
            </a:xfrm>
            <a:prstGeom prst="rect">
              <a:avLst/>
            </a:prstGeom>
            <a:solidFill>
              <a:srgbClr val="d1bf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7"/>
            <p:cNvSpPr/>
            <p:nvPr/>
          </p:nvSpPr>
          <p:spPr>
            <a:xfrm>
              <a:off x="971640" y="2822400"/>
              <a:ext cx="546120" cy="462240"/>
            </a:xfrm>
            <a:prstGeom prst="rect">
              <a:avLst/>
            </a:prstGeom>
            <a:solidFill>
              <a:srgbClr val="3a3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8"/>
            <p:cNvSpPr/>
            <p:nvPr/>
          </p:nvSpPr>
          <p:spPr>
            <a:xfrm>
              <a:off x="2133720" y="1828800"/>
              <a:ext cx="546120" cy="520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9"/>
            <p:cNvSpPr/>
            <p:nvPr/>
          </p:nvSpPr>
          <p:spPr>
            <a:xfrm>
              <a:off x="2195640" y="1333440"/>
              <a:ext cx="546120" cy="461880"/>
            </a:xfrm>
            <a:prstGeom prst="rect">
              <a:avLst/>
            </a:prstGeom>
            <a:solidFill>
              <a:srgbClr val="000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20"/>
            <p:cNvSpPr/>
            <p:nvPr/>
          </p:nvSpPr>
          <p:spPr>
            <a:xfrm>
              <a:off x="1476360" y="2451240"/>
              <a:ext cx="546120" cy="520560"/>
            </a:xfrm>
            <a:prstGeom prst="rect">
              <a:avLst/>
            </a:prstGeom>
            <a:solidFill>
              <a:srgbClr val="000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21"/>
            <p:cNvSpPr/>
            <p:nvPr/>
          </p:nvSpPr>
          <p:spPr>
            <a:xfrm>
              <a:off x="2057400" y="2286000"/>
              <a:ext cx="546120" cy="520560"/>
            </a:xfrm>
            <a:prstGeom prst="rect">
              <a:avLst/>
            </a:prstGeom>
            <a:solidFill>
              <a:srgbClr val="494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22"/>
            <p:cNvSpPr/>
            <p:nvPr/>
          </p:nvSpPr>
          <p:spPr>
            <a:xfrm>
              <a:off x="2154240" y="2793960"/>
              <a:ext cx="546120" cy="466920"/>
            </a:xfrm>
            <a:prstGeom prst="rect">
              <a:avLst/>
            </a:prstGeom>
            <a:solidFill>
              <a:srgbClr val="000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3"/>
            <p:cNvSpPr/>
            <p:nvPr/>
          </p:nvSpPr>
          <p:spPr>
            <a:xfrm>
              <a:off x="1676520" y="2743200"/>
              <a:ext cx="546120" cy="461880"/>
            </a:xfrm>
            <a:prstGeom prst="rect">
              <a:avLst/>
            </a:prstGeom>
            <a:solidFill>
              <a:srgbClr val="00c2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4"/>
            <p:cNvSpPr/>
            <p:nvPr/>
          </p:nvSpPr>
          <p:spPr>
            <a:xfrm>
              <a:off x="1332000" y="3276720"/>
              <a:ext cx="546120" cy="452160"/>
            </a:xfrm>
            <a:prstGeom prst="rect">
              <a:avLst/>
            </a:prstGeom>
            <a:solidFill>
              <a:srgbClr val="dce1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25"/>
            <p:cNvSpPr/>
            <p:nvPr/>
          </p:nvSpPr>
          <p:spPr>
            <a:xfrm>
              <a:off x="2147760" y="3263760"/>
              <a:ext cx="544680" cy="466920"/>
            </a:xfrm>
            <a:prstGeom prst="rect">
              <a:avLst/>
            </a:prstGeom>
            <a:solidFill>
              <a:srgbClr val="c1ad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6"/>
            <p:cNvSpPr/>
            <p:nvPr/>
          </p:nvSpPr>
          <p:spPr>
            <a:xfrm>
              <a:off x="1692360" y="3357720"/>
              <a:ext cx="546120" cy="452160"/>
            </a:xfrm>
            <a:prstGeom prst="rect">
              <a:avLst/>
            </a:prstGeom>
            <a:solidFill>
              <a:srgbClr val="e1c9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Picture 2" descr="C:\Users\user\Desktop\10_0305_-_sgk_cap_logo_final.pn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16761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46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2"/>
          </p:nvPr>
        </p:nvSpPr>
        <p:spPr>
          <a:xfrm>
            <a:off x="3276360" y="4800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2700000" y="3809520"/>
            <a:ext cx="63673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143fa4"/>
                </a:solidFill>
                <a:latin typeface="Arial"/>
              </a:rPr>
              <a:t>Social Partners in the EU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hip: why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Helps understanding and respecting different interest position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Broad commitmen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Industrial stability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Improves economic development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2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7EA6-0856-4D3D-8F00-47472829F5B9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he Social Partners in the E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560" y="68544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ployers Organisations on European level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Cross-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Sectoral 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rade Unions on European level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Cross-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646b2"/>
                </a:solidFill>
                <a:latin typeface="Arial"/>
              </a:rPr>
              <a:t>Sectoral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hambers of Commerce and Industry on European level: Eurochambr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ll organise Member State organisations that organise membe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me are federations of federations of organisat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fluence of actual members is not “very direct”….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5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933-C76D-456C-BD75-9EAB8EDA721E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 in the E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The Commission publishes a list of European social partner organisations.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t present, the list includes 75 organisations and is divided into five groups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General cross-industry organisations (CEEP, ETUC, BusinessEurope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Cross-industry organisations representing certain categories of workers or undertakings (Eurocadres, UEAPME, CEC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pecific organisations (Eurochambres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ectoral organisations with no cross-industry affiliation (53 organisations)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European trade union organisations (15 organisations).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FE17-5DCB-49B0-8D72-458F1F507185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Form of EU Social Partnershi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240" y="6091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Promotion of a European Social Dialogue organised in: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Dialogue Committee (SDC) (cross-industry)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DC working groups and semina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Negotiations towards bi- or tri-partite agree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dialogue summi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ectoral social dialogue committe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Related to specific sectors or categories on European level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nsist of organisations who are integral and recognised part of MS social partner structur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2" marL="891360" indent="-1782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ave the capacity to negotiate agree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79240" indent="-222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Both bipartite and tripartite activiti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1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75A-5407-44EC-B446-3869985432F5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560" y="609120"/>
            <a:ext cx="8659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Agreements implemented by Council Directive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evised framework agreement on parental leave (2008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fixed-term contracts (1999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part-time work (1997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parental leave (1996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Autonomous agreements implemented by Social partners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inclusive labour markets (2010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harassment and violence at work (2007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work-related stress (2004) 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spcAft>
                <a:spcPts val="601"/>
              </a:spcAft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Framework agreement on telework (2002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1646b2"/>
                </a:solidFill>
                <a:latin typeface="Arial"/>
              </a:rPr>
              <a:t>Consultations on any new social European initiative</a:t>
            </a:r>
            <a:endParaRPr b="0" lang="en-US" sz="1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enewed Social Agenda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Employment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ights at work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Social Protection and social inclus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Gender equality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EU social security coordinat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At least ….. In theory….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93C5-D08E-42A6-8AB8-E96BEE44BF76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EU social partnership and links to social secur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clus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arental leav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ransferability of supplementary pens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Flexibility of working time and securi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and safety issu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isability strateg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romoting solidarity between generation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ordination of social security benefits &gt;&gt;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67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99FE-6395-4511-96AA-ED6AE8979E73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ordination of social security benefi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6091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“</a:t>
            </a: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Movers” are covered by the legislation of one country (pay contributions once)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Same rights and obligations as the national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revious periods of insurance, work or residence in other countries are taken into account if necessary.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Cash benefits are – generally – “exportable”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Social security institutions will coordinat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pplies to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ickness, maternity and equivalent paternit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old-age pensions, pre-retirement and invalidit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survivors’ benefits and death gran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unemployment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family benefit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1646b2"/>
                </a:solidFill>
                <a:latin typeface="Arial"/>
              </a:rPr>
              <a:t>benefits in respect of accidents at work and occupational diseases</a:t>
            </a:r>
            <a:endParaRPr b="0" lang="en-US" sz="20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70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74E5-28BD-4ADD-BA62-61BF56432029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8558-A1DA-4DCB-814C-FB03AD41E627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30592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ubject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65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 in different socio-economic model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: areas of influenc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Collective bargaining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 in the EU: who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Social partnership in the EU: what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: how?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: resul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46b2"/>
                </a:solidFill>
                <a:latin typeface="Arial"/>
              </a:rPr>
              <a:t>EU Social Partnership and links to social security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egotiation strateg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646b2"/>
                </a:solidFill>
                <a:latin typeface="Arial"/>
              </a:rPr>
              <a:t>Positional negoti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8590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osition dominat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wn interest posi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Mistrust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Looking for weak spo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in-los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dversarial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Hard – cold – no relation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ppon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Emotion allowed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4720" y="121896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646b2"/>
                </a:solidFill>
                <a:latin typeface="Arial"/>
              </a:rPr>
              <a:t>Integrative negoti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44720" y="18590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nterest dominat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Assessing all interes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Mutual trus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trengthening each other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Win-wi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Compromis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ft on the relation – hard on the cont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otion excluded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8DD1-35DC-4929-B1B9-A1617DCFC447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76320" y="-360"/>
            <a:ext cx="4419360" cy="3352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dic model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Government: mostly coalitions of diverse political direction (3 parties or more)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government: seeking balance in interest positions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employers organisations: “enlightened employers”; using society developments for own interests, “corporate social responsibility”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ole of trade unions: open to development / innovation – status quo not “sacred”; economic realism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cial partnership basis: integrative negotiation</a:t>
            </a:r>
            <a:endParaRPr b="0" lang="en-US" sz="16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646b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33BF-01A0-47B9-9FA5-A8C1475987D5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ijdelijke aanduiding voor inhoud 2"/>
          <p:cNvSpPr/>
          <p:nvPr/>
        </p:nvSpPr>
        <p:spPr>
          <a:xfrm>
            <a:off x="4648320" y="0"/>
            <a:ext cx="4419360" cy="33526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hineland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Government: mostly coalitions, though with less variety (2 par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government: leading in the different interest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employers organisations: comparable to Nordic, slightly more focussed on own interest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trade unions: focus is more on protection and defense of current r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ocial partnership basis: integrative negotiation with some positional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inhoud 2"/>
          <p:cNvSpPr/>
          <p:nvPr/>
        </p:nvSpPr>
        <p:spPr>
          <a:xfrm>
            <a:off x="76320" y="3505320"/>
            <a:ext cx="4419360" cy="335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Anglo-Saxo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Government: mostly 1 party governments with strong ideological dif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government: enforcing own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employers organisations: more classical capitalistic orientation, focussed on own economic interest 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Role of trade unions: focussed on defense of rights and high wages for members, own interest position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1646b2"/>
                </a:solidFill>
                <a:latin typeface="Arial"/>
              </a:rPr>
              <a:t>Social partnership basis: positional negotiation – conflict sen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inhoud 2"/>
          <p:cNvSpPr/>
          <p:nvPr/>
        </p:nvSpPr>
        <p:spPr>
          <a:xfrm>
            <a:off x="4648320" y="3505320"/>
            <a:ext cx="4419360" cy="3352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editerranean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Government: mostly coalitions, dominated by one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government: non-governmental coalitions, depending on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employers organisations: focussed on own interest pos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Role of trade unions: focussed on defense of established rights and increasing w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Social partnership: positional orientation, incidental coalitions, high conflict sensi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Social Partnership: operational leve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09480" y="1341360"/>
          <a:ext cx="8305920" cy="3657600"/>
        </p:xfrm>
        <a:graphic>
          <a:graphicData uri="http://schemas.openxmlformats.org/drawingml/2006/table">
            <a:tbl>
              <a:tblPr/>
              <a:tblGrid>
                <a:gridCol w="1660680"/>
                <a:gridCol w="1662120"/>
                <a:gridCol w="1660320"/>
                <a:gridCol w="1662120"/>
                <a:gridCol w="1660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an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sub-)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region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Nat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E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p stew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mework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al agre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sions, wage increm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Socio-economic poli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Tomorrow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s counc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barg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Advice procedures legis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barg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ension) f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33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ADD2-8431-4CF5-950A-52A2767C909F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ng 6"/>
          <p:cNvSpPr/>
          <p:nvPr/>
        </p:nvSpPr>
        <p:spPr>
          <a:xfrm>
            <a:off x="76320" y="685800"/>
            <a:ext cx="5333760" cy="518148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ing 8"/>
          <p:cNvSpPr/>
          <p:nvPr/>
        </p:nvSpPr>
        <p:spPr>
          <a:xfrm>
            <a:off x="3505320" y="685800"/>
            <a:ext cx="5562360" cy="5181480"/>
          </a:xfrm>
          <a:prstGeom prst="pie">
            <a:avLst/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751"/>
              </a:spcBef>
              <a:buClr>
                <a:srgbClr val="9999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e toelichting 9"/>
          <p:cNvSpPr/>
          <p:nvPr/>
        </p:nvSpPr>
        <p:spPr>
          <a:xfrm>
            <a:off x="457200" y="5562720"/>
            <a:ext cx="4572000" cy="1066680"/>
          </a:xfrm>
          <a:prstGeom prst="wedgeEllipseCallout">
            <a:avLst>
              <a:gd name="adj1" fmla="val 59245"/>
              <a:gd name="adj2" fmla="val -106217"/>
            </a:avLst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ipartite level: Government, Emplo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sations &amp; Trade U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e toelichting 7"/>
          <p:cNvSpPr/>
          <p:nvPr/>
        </p:nvSpPr>
        <p:spPr>
          <a:xfrm>
            <a:off x="4572000" y="5410080"/>
            <a:ext cx="4572000" cy="1067040"/>
          </a:xfrm>
          <a:prstGeom prst="wedgeEllipseCallout">
            <a:avLst>
              <a:gd name="adj1" fmla="val -66490"/>
              <a:gd name="adj2" fmla="val -99250"/>
            </a:avLst>
          </a:prstGeom>
          <a:solidFill>
            <a:srgbClr val="00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partite; Coordination level (centra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mployers organisations &amp; trade un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lective Bargaining Agree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560" y="83772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Written, legally enforceable contract for a specified period (usually one year), 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Between Employers (organisation</a:t>
            </a:r>
            <a:r>
              <a:rPr b="0" lang="nl-NL" sz="2800" spc="-1" strike="noStrike" u="sng">
                <a:solidFill>
                  <a:srgbClr val="1646b2"/>
                </a:solidFill>
                <a:uFillTx/>
                <a:latin typeface="Arial"/>
              </a:rPr>
              <a:t>s</a:t>
            </a: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) and Trade Union(s)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1646b2"/>
                </a:solidFill>
                <a:latin typeface="Arial"/>
              </a:rPr>
              <a:t>About conditions of employment 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ages (including job descriptions and classification)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Working hours and conditions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Overtime payments, holidays, vacations, benefi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Additional social security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1646b2"/>
                </a:solidFill>
                <a:latin typeface="Arial"/>
              </a:rPr>
              <a:t>Procedures for dispute resolution. 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0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8BB1-45AD-4DA6-85D5-BAE978BC796B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Collective bargaining, how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560" y="134100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Framework for wage costs development (TU): Productivity + inflation = basis for negotiations (tax and premium developments are excluded)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Tailored to company or sector circumstance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Trade unions unify their different proposal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Proposals of employers and trade union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Start of the negotiations….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Fireworks” (wage increment) mostly at the end of the proces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3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7F3E-AED2-4BD5-8AE6-3B7F6E946599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45720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orks counc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Advisory body, consisting of (elected) employee representatives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Deliberating with – and advising the employer on matters related to the development of a company: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Organisational development / chang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Work- holiday schedul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&amp; safety issu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Important investment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94360" indent="-2286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(strategic) cooper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646b2"/>
                </a:solidFill>
                <a:latin typeface="Arial"/>
              </a:rPr>
              <a:t>Often in bigger companies you can see works councils on plant-level, a central works council and even a European works council</a:t>
            </a:r>
            <a:endParaRPr b="0" lang="en-US" sz="28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6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D1F5-1A6F-4AF2-8D6F-2A8B71C02A00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solidFill>
            <a:srgbClr val="1658b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National Tripartite level: Socio-economic Counci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560" y="761760"/>
            <a:ext cx="86598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eliberation between central level Employers Organisations, Trade Unions &amp; Governm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ubjects are related to broad overall socio-economic policies, for instance: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Social securi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care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mployment policie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Health &amp; safety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Urban planning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Taxation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  <a:p>
            <a:pPr lvl="1" marL="534960" indent="-20556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646b2"/>
                </a:solidFill>
                <a:latin typeface="Arial"/>
              </a:rPr>
              <a:t>Doing business</a:t>
            </a:r>
            <a:endParaRPr b="0" lang="en-US" sz="2400" spc="-1" strike="noStrike">
              <a:solidFill>
                <a:srgbClr val="1646b2"/>
              </a:solidFill>
              <a:latin typeface="Arial"/>
            </a:endParaRPr>
          </a:p>
        </p:txBody>
      </p:sp>
      <p:sp>
        <p:nvSpPr>
          <p:cNvPr id="149" name="Tijdelijke aanduiding voor dianummer 3"/>
          <p:cNvSpPr/>
          <p:nvPr/>
        </p:nvSpPr>
        <p:spPr>
          <a:xfrm>
            <a:off x="8534520" y="6477120"/>
            <a:ext cx="380880" cy="228600"/>
          </a:xfrm>
          <a:prstGeom prst="rect">
            <a:avLst/>
          </a:prstGeom>
          <a:solidFill>
            <a:srgbClr val="afc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9245-B51C-4060-8793-B5DC2509CB4C}" type="slidenum">
              <a:rPr b="1" lang="en-GB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8:17:23Z</dcterms:created>
  <dc:creator>Name</dc:creator>
  <dc:description/>
  <dc:language>en-US</dc:language>
  <cp:lastModifiedBy>Henry Leerentveld</cp:lastModifiedBy>
  <dcterms:modified xsi:type="dcterms:W3CDTF">2010-09-21T06:59:49Z</dcterms:modified>
  <cp:revision>162</cp:revision>
  <dc:subject/>
  <dc:title>Bernard Brunhes International</dc:title>
</cp:coreProperties>
</file>