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1F22-47B4-4B70-B649-0D883B292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CF2D-740C-479C-878A-964579434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D543-D48D-439E-8887-8EB4157F2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9234-622E-4B61-B19C-DE5B20FBF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A494-AE7E-4768-9861-5900FE9B5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12FB-1384-46F2-8841-08BA3A967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8659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3346920"/>
            <a:ext cx="8659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5AE16-7CFA-4E1E-9B7E-3FE2DBEF5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192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334692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1920" y="334692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3CCF-7902-4289-82BB-B16158B58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2440" y="134100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60680" y="134100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334692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2440" y="334692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60680" y="334692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C12E-6C62-4418-9129-819D0CE76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560" y="134100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42256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1920" y="1341000"/>
            <a:ext cx="42256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533160" y="1522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1920" y="1341000"/>
            <a:ext cx="42256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34692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134100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225C-1793-43C6-952B-A262849760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42256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4192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41920" y="334692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4192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560" y="3346920"/>
            <a:ext cx="8659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8659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560" y="3346920"/>
            <a:ext cx="8659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192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560" y="334692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41920" y="334692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2440" y="134100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0680" y="134100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560" y="334692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2440" y="334692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0680" y="334692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6FA2-4C00-41AA-A14E-7145868FD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42256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1920" y="1341000"/>
            <a:ext cx="42256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7B09-E3E4-4A7D-8825-7B921F74C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F99C-F3C1-4B24-8A8B-BFB9890DF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160" y="1522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43FE-688D-40D5-8ED2-CF45DBF1B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1920" y="1341000"/>
            <a:ext cx="42256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334692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4EF3-9A68-46CB-B094-122826668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42256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192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1920" y="334692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3FE8-2A53-4D87-B43E-58AA21113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192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346920"/>
            <a:ext cx="8659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E60E-A9DE-4140-9433-895D494A7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34520" y="647676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9FB2-A714-41EC-9D37-B9B9B93F9BFB}" type="slidenum">
              <a:rPr b="1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04560" y="134100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380880" y="6324480"/>
            <a:ext cx="3811680" cy="1368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751"/>
              </a:spcBef>
              <a:buClr>
                <a:srgbClr val="9999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30"/>
          <p:cNvGrpSpPr/>
          <p:nvPr/>
        </p:nvGrpSpPr>
        <p:grpSpPr>
          <a:xfrm>
            <a:off x="76320" y="76320"/>
            <a:ext cx="533160" cy="658800"/>
            <a:chOff x="76320" y="76320"/>
            <a:chExt cx="533160" cy="658800"/>
          </a:xfrm>
        </p:grpSpPr>
        <p:sp>
          <p:nvSpPr>
            <p:cNvPr id="5" name="Rectangle 20"/>
            <p:cNvSpPr/>
            <p:nvPr/>
          </p:nvSpPr>
          <p:spPr>
            <a:xfrm>
              <a:off x="76320" y="457560"/>
              <a:ext cx="244440" cy="277560"/>
            </a:xfrm>
            <a:prstGeom prst="rect">
              <a:avLst/>
            </a:prstGeom>
            <a:solidFill>
              <a:srgbClr val="055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152280" y="381240"/>
              <a:ext cx="228600" cy="228600"/>
            </a:xfrm>
            <a:prstGeom prst="rect">
              <a:avLst/>
            </a:prstGeom>
            <a:solidFill>
              <a:srgbClr val="e5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1"/>
            <p:cNvSpPr/>
            <p:nvPr/>
          </p:nvSpPr>
          <p:spPr>
            <a:xfrm>
              <a:off x="363600" y="76320"/>
              <a:ext cx="245880" cy="281160"/>
            </a:xfrm>
            <a:prstGeom prst="rect">
              <a:avLst/>
            </a:prstGeom>
            <a:solidFill>
              <a:srgbClr val="afc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7"/>
            <p:cNvSpPr/>
            <p:nvPr/>
          </p:nvSpPr>
          <p:spPr>
            <a:xfrm>
              <a:off x="266760" y="196920"/>
              <a:ext cx="243000" cy="250920"/>
            </a:xfrm>
            <a:prstGeom prst="rect">
              <a:avLst/>
            </a:prstGeom>
            <a:solidFill>
              <a:srgbClr val="fff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29"/>
          <p:cNvSpPr/>
          <p:nvPr/>
        </p:nvSpPr>
        <p:spPr>
          <a:xfrm>
            <a:off x="5105520" y="6324480"/>
            <a:ext cx="3809880" cy="1368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751"/>
              </a:spcBef>
              <a:buClr>
                <a:srgbClr val="9999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" name="Object 31"/>
          <p:cNvGraphicFramePr/>
          <p:nvPr/>
        </p:nvGraphicFramePr>
        <p:xfrm>
          <a:off x="4419720" y="6172200"/>
          <a:ext cx="53316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6172200"/>
                    <a:ext cx="53316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34920" y="3200400"/>
            <a:ext cx="538200" cy="466560"/>
          </a:xfrm>
          <a:prstGeom prst="rect">
            <a:avLst/>
          </a:prstGeom>
          <a:solidFill>
            <a:srgbClr val="fffa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8"/>
          <p:cNvGrpSpPr/>
          <p:nvPr/>
        </p:nvGrpSpPr>
        <p:grpSpPr>
          <a:xfrm>
            <a:off x="147600" y="1333440"/>
            <a:ext cx="2594160" cy="2476440"/>
            <a:chOff x="147600" y="1333440"/>
            <a:chExt cx="2594160" cy="2476440"/>
          </a:xfrm>
        </p:grpSpPr>
        <p:sp>
          <p:nvSpPr>
            <p:cNvPr id="50" name="Rectangle 8"/>
            <p:cNvSpPr/>
            <p:nvPr/>
          </p:nvSpPr>
          <p:spPr>
            <a:xfrm>
              <a:off x="1101600" y="1805040"/>
              <a:ext cx="547920" cy="520560"/>
            </a:xfrm>
            <a:prstGeom prst="rect">
              <a:avLst/>
            </a:prstGeom>
            <a:solidFill>
              <a:srgbClr val="196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1763640" y="1438200"/>
              <a:ext cx="546120" cy="466920"/>
            </a:xfrm>
            <a:prstGeom prst="rect">
              <a:avLst/>
            </a:pr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565200" y="3260880"/>
              <a:ext cx="546120" cy="466560"/>
            </a:xfrm>
            <a:prstGeom prst="rect">
              <a:avLst/>
            </a:prstGeom>
            <a:solidFill>
              <a:srgbClr val="f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1630440" y="1800360"/>
              <a:ext cx="546120" cy="520560"/>
            </a:xfrm>
            <a:prstGeom prst="rect">
              <a:avLst/>
            </a:prstGeom>
            <a:solidFill>
              <a:srgbClr val="3d4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673200" y="2336760"/>
              <a:ext cx="546120" cy="482760"/>
            </a:xfrm>
            <a:prstGeom prst="rect">
              <a:avLst/>
            </a:prstGeom>
            <a:solidFill>
              <a:srgbClr val="396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1216080" y="2286000"/>
              <a:ext cx="536400" cy="482760"/>
            </a:xfrm>
            <a:prstGeom prst="rect">
              <a:avLst/>
            </a:pr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47600" y="2743200"/>
              <a:ext cx="538200" cy="460440"/>
            </a:xfrm>
            <a:prstGeom prst="rect">
              <a:avLst/>
            </a:prstGeom>
            <a:solidFill>
              <a:srgbClr val="7b7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539640" y="2800440"/>
              <a:ext cx="546120" cy="460440"/>
            </a:xfrm>
            <a:prstGeom prst="rect">
              <a:avLst/>
            </a:prstGeom>
            <a:solidFill>
              <a:srgbClr val="484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6"/>
            <p:cNvSpPr/>
            <p:nvPr/>
          </p:nvSpPr>
          <p:spPr>
            <a:xfrm>
              <a:off x="900000" y="3211560"/>
              <a:ext cx="547920" cy="469800"/>
            </a:xfrm>
            <a:prstGeom prst="rect">
              <a:avLst/>
            </a:prstGeom>
            <a:solidFill>
              <a:srgbClr val="d1b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7"/>
            <p:cNvSpPr/>
            <p:nvPr/>
          </p:nvSpPr>
          <p:spPr>
            <a:xfrm>
              <a:off x="971640" y="2822400"/>
              <a:ext cx="546120" cy="462240"/>
            </a:xfrm>
            <a:prstGeom prst="rect">
              <a:avLst/>
            </a:prstGeom>
            <a:solidFill>
              <a:srgbClr val="3a3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8"/>
            <p:cNvSpPr/>
            <p:nvPr/>
          </p:nvSpPr>
          <p:spPr>
            <a:xfrm>
              <a:off x="2133720" y="1828800"/>
              <a:ext cx="546120" cy="520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9"/>
            <p:cNvSpPr/>
            <p:nvPr/>
          </p:nvSpPr>
          <p:spPr>
            <a:xfrm>
              <a:off x="2195640" y="1333440"/>
              <a:ext cx="546120" cy="461880"/>
            </a:xfrm>
            <a:prstGeom prst="rect">
              <a:avLst/>
            </a:prstGeom>
            <a:solidFill>
              <a:srgbClr val="000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0"/>
            <p:cNvSpPr/>
            <p:nvPr/>
          </p:nvSpPr>
          <p:spPr>
            <a:xfrm>
              <a:off x="1476360" y="2451240"/>
              <a:ext cx="546120" cy="520560"/>
            </a:xfrm>
            <a:prstGeom prst="rect">
              <a:avLst/>
            </a:prstGeom>
            <a:solidFill>
              <a:srgbClr val="000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1"/>
            <p:cNvSpPr/>
            <p:nvPr/>
          </p:nvSpPr>
          <p:spPr>
            <a:xfrm>
              <a:off x="2057400" y="2286000"/>
              <a:ext cx="546120" cy="520560"/>
            </a:xfrm>
            <a:prstGeom prst="rect">
              <a:avLst/>
            </a:prstGeom>
            <a:solidFill>
              <a:srgbClr val="494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2"/>
            <p:cNvSpPr/>
            <p:nvPr/>
          </p:nvSpPr>
          <p:spPr>
            <a:xfrm>
              <a:off x="2154240" y="2793960"/>
              <a:ext cx="546120" cy="466920"/>
            </a:xfrm>
            <a:prstGeom prst="rect">
              <a:avLst/>
            </a:pr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3"/>
            <p:cNvSpPr/>
            <p:nvPr/>
          </p:nvSpPr>
          <p:spPr>
            <a:xfrm>
              <a:off x="1676520" y="2743200"/>
              <a:ext cx="546120" cy="461880"/>
            </a:xfrm>
            <a:prstGeom prst="rect">
              <a:avLst/>
            </a:prstGeom>
            <a:solidFill>
              <a:srgbClr val="00c2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4"/>
            <p:cNvSpPr/>
            <p:nvPr/>
          </p:nvSpPr>
          <p:spPr>
            <a:xfrm>
              <a:off x="1332000" y="3276720"/>
              <a:ext cx="546120" cy="452160"/>
            </a:xfrm>
            <a:prstGeom prst="rect">
              <a:avLst/>
            </a:prstGeom>
            <a:solidFill>
              <a:srgbClr val="dce1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2147760" y="3263760"/>
              <a:ext cx="544680" cy="466920"/>
            </a:xfrm>
            <a:prstGeom prst="rect">
              <a:avLst/>
            </a:prstGeom>
            <a:solidFill>
              <a:srgbClr val="c1a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6"/>
            <p:cNvSpPr/>
            <p:nvPr/>
          </p:nvSpPr>
          <p:spPr>
            <a:xfrm>
              <a:off x="1692360" y="3357720"/>
              <a:ext cx="546120" cy="452160"/>
            </a:xfrm>
            <a:prstGeom prst="rect">
              <a:avLst/>
            </a:prstGeom>
            <a:solidFill>
              <a:srgbClr val="e1c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2" descr="C:\Users\user\Desktop\10_0305_-_sgk_cap_logo_final.png"/>
          <p:cNvPicPr/>
          <p:nvPr/>
        </p:nvPicPr>
        <p:blipFill>
          <a:blip r:embed="rId2"/>
          <a:stretch/>
        </p:blipFill>
        <p:spPr>
          <a:xfrm>
            <a:off x="2743200" y="1676520"/>
            <a:ext cx="6400800" cy="1676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304560" y="134100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2"/>
          </p:nvPr>
        </p:nvSpPr>
        <p:spPr>
          <a:xfrm>
            <a:off x="3276360" y="4800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700000" y="3809520"/>
            <a:ext cx="6367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43fa4"/>
                </a:solidFill>
                <a:latin typeface="Arial"/>
              </a:rPr>
              <a:t>Social Partners in the EU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cial Partnership: why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4100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Helps understanding and respecting different interest positions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Broad commitment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Industrial stability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Improves economic development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52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D658-FA88-48B6-9CD7-9F2A1A35B8C6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ocial Partners in the E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68544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Employers Organisations on European level: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646b2"/>
                </a:solidFill>
                <a:latin typeface="Arial"/>
              </a:rPr>
              <a:t>Cross-sectoral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646b2"/>
                </a:solidFill>
                <a:latin typeface="Arial"/>
              </a:rPr>
              <a:t>Sectoral 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Trade Unions on European level: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646b2"/>
                </a:solidFill>
                <a:latin typeface="Arial"/>
              </a:rPr>
              <a:t>Cross-sectoral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646b2"/>
                </a:solidFill>
                <a:latin typeface="Arial"/>
              </a:rPr>
              <a:t>Sectoral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Chambers of Commerce and Industry on European level: Eurochambre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All organise Member State organisations that organise member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Some are federations of federations of organisation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Influence of actual members is not “very direct”….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55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1CF0-ABDA-44BE-933B-8DAF74447689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cial Partners in the E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76176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The Commission publishes a list of European social partner organisations. 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At present, the list includes 75 organisations and is divided into five groups: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646b2"/>
                </a:solidFill>
                <a:latin typeface="Arial"/>
              </a:rPr>
              <a:t>General cross-industry organisations (CEEP, ETUC, BusinessEurope)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646b2"/>
                </a:solidFill>
                <a:latin typeface="Arial"/>
              </a:rPr>
              <a:t>Cross-industry organisations representing certain categories of workers or undertakings (Eurocadres, UEAPME, CEC)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646b2"/>
                </a:solidFill>
                <a:latin typeface="Arial"/>
              </a:rPr>
              <a:t>Specific organisations (Eurochambres)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646b2"/>
                </a:solidFill>
                <a:latin typeface="Arial"/>
              </a:rPr>
              <a:t>Sectoral organisations with no cross-industry affiliation (53 organisations)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646b2"/>
                </a:solidFill>
                <a:latin typeface="Arial"/>
              </a:rPr>
              <a:t>European trade union organisations (15 organisations).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7D6E-1261-4C61-BC92-9BE443C73AFB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Form of EU Social Partnersh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240" y="60912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Promotion of a European Social Dialogue organised in: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Social Dialogue Committee (SDC) (cross-industry)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2" marL="891360" indent="-1782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SDC working groups and seminar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2" marL="891360" indent="-1782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Negotiations towards bi- or tri-partite agreement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2" marL="891360" indent="-1782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Social dialogue summit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Sectoral social dialogue committee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2" marL="891360" indent="-1782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Related to specific sectors or categories on European level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2" marL="891360" indent="-1782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Consist of organisations who are integral and recognised part of MS social partner structure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2" marL="891360" indent="-1782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Have the capacity to negotiate agreement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Both bipartite and tripartite activitie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61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4043-C80C-4AF0-9ADB-517626413747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560" y="609120"/>
            <a:ext cx="8659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6b2"/>
                </a:solidFill>
                <a:latin typeface="Arial"/>
              </a:rPr>
              <a:t>Agreements implemented by Council Directive</a:t>
            </a:r>
            <a:endParaRPr b="0" lang="en-US" sz="18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Revised framework agreement on parental leave (2008) 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Framework agreement on fixed-term contracts (1999) 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Framework agreement on part-time work (1997) 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Framework agreement on parental leave (1996)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6b2"/>
                </a:solidFill>
                <a:latin typeface="Arial"/>
              </a:rPr>
              <a:t>Autonomous agreements implemented by Social partners</a:t>
            </a:r>
            <a:endParaRPr b="0" lang="en-US" sz="18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Framework agreement on inclusive labour markets (2010) 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Framework agreement on harassment and violence at work (2007) 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Framework agreement on work-related stress (2004) 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Framework agreement on telework (2002)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6b2"/>
                </a:solidFill>
                <a:latin typeface="Arial"/>
              </a:rPr>
              <a:t>Consultations on any new social European initiative</a:t>
            </a:r>
            <a:endParaRPr b="0" lang="en-US" sz="18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Renewed Social Agenda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Employment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Rights at work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Social Protection and social inclusion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Gender equality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EU social security coordination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At least ….. In theory….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2DA3-287B-4D35-BA90-AE5A13129156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EU social partnership and links to social secur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560" y="134100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Inclusion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Parental leave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Transferability of supplementary pension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Flexibility of working time and security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Health and safety issue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Disability strategy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Promoting solidarity between generation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Coordination of social security benefits &gt;&gt;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67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B7CD-FA79-4B5D-995C-79268E2B649A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oordination of social security benefi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28240" y="60912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“</a:t>
            </a: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Movers” are covered by the legislation of one country (pay contributions once)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Same rights and obligations as the national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Previous periods of insurance, work or residence in other countries are taken into account if necessary.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Cash benefits are – generally – “exportable”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Social security institutions will coordinate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Applies to: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646b2"/>
                </a:solidFill>
                <a:latin typeface="Arial"/>
              </a:rPr>
              <a:t>sickness, maternity and equivalent paternity benefits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646b2"/>
                </a:solidFill>
                <a:latin typeface="Arial"/>
              </a:rPr>
              <a:t>old-age pensions, pre-retirement and invalidity benefits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646b2"/>
                </a:solidFill>
                <a:latin typeface="Arial"/>
              </a:rPr>
              <a:t>survivors’ benefits and death grants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646b2"/>
                </a:solidFill>
                <a:latin typeface="Arial"/>
              </a:rPr>
              <a:t>unemployment benefits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646b2"/>
                </a:solidFill>
                <a:latin typeface="Arial"/>
              </a:rPr>
              <a:t>family benefits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646b2"/>
                </a:solidFill>
                <a:latin typeface="Arial"/>
              </a:rPr>
              <a:t>benefits in respect of accidents at work and occupational diseases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E590-3D29-4018-A294-779640C32BFB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2FB7-2081-4C3A-BE09-09A783C54DF5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659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6b2"/>
                </a:solidFill>
                <a:latin typeface="Arial"/>
              </a:rPr>
              <a:t>Social partnership in different socio-economic model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6b2"/>
                </a:solidFill>
                <a:latin typeface="Arial"/>
              </a:rPr>
              <a:t>Social partnership: areas of influence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6b2"/>
                </a:solidFill>
                <a:latin typeface="Arial"/>
              </a:rPr>
              <a:t>Collective bargaining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6b2"/>
                </a:solidFill>
                <a:latin typeface="Arial"/>
              </a:rPr>
              <a:t>Social partners in the EU: who?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6b2"/>
                </a:solidFill>
                <a:latin typeface="Arial"/>
              </a:rPr>
              <a:t>Social partnership in the EU: what?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6b2"/>
                </a:solidFill>
                <a:latin typeface="Arial"/>
              </a:rPr>
              <a:t>EU Social Partnership: how?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6b2"/>
                </a:solidFill>
                <a:latin typeface="Arial"/>
              </a:rPr>
              <a:t>EU Social Partnership: result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6b2"/>
                </a:solidFill>
                <a:latin typeface="Arial"/>
              </a:rPr>
              <a:t>EU Social Partnership and links to social security 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Negotiation strateg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646b2"/>
                </a:solidFill>
                <a:latin typeface="Arial"/>
              </a:rPr>
              <a:t>Positional negotiation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85904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Position dominate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Own interest position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Mistrust 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Looking for weak spot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Win-lose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Adversarial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Hard – cold – no relation 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Opponent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Emotion allowed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646b2"/>
                </a:solidFill>
                <a:latin typeface="Arial"/>
              </a:rPr>
              <a:t>Integrative negotiation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4720" y="18590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Interest dominate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Assessing all interest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Mutual trust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Strengthening each other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Win-win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Compromise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Soft on the relation – hard on the content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Partner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Emotion excluded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25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90DF-62E0-4FAB-9FCF-4F06ACFF5070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76320" y="-360"/>
            <a:ext cx="4419360" cy="3352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dic model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Government: mostly coalitions of diverse political direction (3 parties or more)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ole of government: seeking balance in interest positions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ole of employers organisations: “enlightened employers”; using society developments for own interests, “corporate social responsibility”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ole of trade unions: open to development / innovation – status quo not “sacred”; economic realism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cial partnership basis: integrative negotiation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646b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D0EE-52CB-4F7F-A0BB-7F8588B5524D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inhoud 2"/>
          <p:cNvSpPr/>
          <p:nvPr/>
        </p:nvSpPr>
        <p:spPr>
          <a:xfrm>
            <a:off x="4648320" y="0"/>
            <a:ext cx="4419360" cy="3352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Rhineland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Government: mostly coalitions, though with less variety (2 par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Role of government: leading in the different interest pos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Role of employers organisations: comparable to Nordic, slightly more focussed on own interest po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Role of trade unions: focus is more on protection and defense of current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Social partnership basis: integrative negotiation with some positional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jdelijke aanduiding voor inhoud 2"/>
          <p:cNvSpPr/>
          <p:nvPr/>
        </p:nvSpPr>
        <p:spPr>
          <a:xfrm>
            <a:off x="76320" y="3505320"/>
            <a:ext cx="4419360" cy="335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Anglo-Saxon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Government: mostly 1 party governments with strong ideological dif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Role of government: enforcing own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Role of employers organisations: more classical capitalistic orientation, focussed on own economic interest po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Role of trade unions: focussed on defense of rights and high wages for members, own interest position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Social partnership basis: positional negotiation – conflict sen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jdelijke aanduiding voor inhoud 2"/>
          <p:cNvSpPr/>
          <p:nvPr/>
        </p:nvSpPr>
        <p:spPr>
          <a:xfrm>
            <a:off x="4648320" y="3505320"/>
            <a:ext cx="4419360" cy="3352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Mediterranean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Government: mostly coalitions, dominated by one pa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Role of government: non-governmental coalitions, depending on su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Role of employers organisations: focussed on own interest pos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Role of trade unions: focussed on defense of established rights and increasing w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Social partnership: positional orientation, incidental coalitions, high conflict sensi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cial Partnership: operational leve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09480" y="1341360"/>
          <a:ext cx="8305920" cy="3657600"/>
        </p:xfrm>
        <a:graphic>
          <a:graphicData uri="http://schemas.openxmlformats.org/drawingml/2006/table">
            <a:tbl>
              <a:tblPr/>
              <a:tblGrid>
                <a:gridCol w="1660680"/>
                <a:gridCol w="1662120"/>
                <a:gridCol w="1660320"/>
                <a:gridCol w="1662120"/>
                <a:gridCol w="1660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n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ub-) S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region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N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 stew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work Agre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 agre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ensions, wage increm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Socio-economic poli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omorrow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s counc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ve barg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dvice procedures legis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ve barg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ension) fu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33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0EF9-A20E-4E3B-B590-E5B2B21FBECE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ing 6"/>
          <p:cNvSpPr/>
          <p:nvPr/>
        </p:nvSpPr>
        <p:spPr>
          <a:xfrm>
            <a:off x="76320" y="685800"/>
            <a:ext cx="5333760" cy="5181480"/>
          </a:xfrm>
          <a:prstGeom prst="pie">
            <a:avLst/>
          </a:prstGeom>
          <a:solidFill>
            <a:srgbClr val="00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751"/>
              </a:spcBef>
              <a:buClr>
                <a:srgbClr val="9999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ing 8"/>
          <p:cNvSpPr/>
          <p:nvPr/>
        </p:nvSpPr>
        <p:spPr>
          <a:xfrm>
            <a:off x="3505320" y="685800"/>
            <a:ext cx="5562360" cy="5181480"/>
          </a:xfrm>
          <a:prstGeom prst="pie">
            <a:avLst/>
          </a:prstGeom>
          <a:solidFill>
            <a:srgbClr val="00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751"/>
              </a:spcBef>
              <a:buClr>
                <a:srgbClr val="9999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e toelichting 9"/>
          <p:cNvSpPr/>
          <p:nvPr/>
        </p:nvSpPr>
        <p:spPr>
          <a:xfrm>
            <a:off x="457200" y="5562720"/>
            <a:ext cx="4572000" cy="1066680"/>
          </a:xfrm>
          <a:prstGeom prst="wedgeEllipseCallout">
            <a:avLst>
              <a:gd name="adj1" fmla="val 59245"/>
              <a:gd name="adj2" fmla="val -106217"/>
            </a:avLst>
          </a:prstGeom>
          <a:solidFill>
            <a:srgbClr val="00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ipartite level: Government, 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ganisations &amp; Trade Un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e toelichting 7"/>
          <p:cNvSpPr/>
          <p:nvPr/>
        </p:nvSpPr>
        <p:spPr>
          <a:xfrm>
            <a:off x="4572000" y="5410080"/>
            <a:ext cx="4572000" cy="1067040"/>
          </a:xfrm>
          <a:prstGeom prst="wedgeEllipseCallout">
            <a:avLst>
              <a:gd name="adj1" fmla="val -66490"/>
              <a:gd name="adj2" fmla="val -99250"/>
            </a:avLst>
          </a:prstGeom>
          <a:solidFill>
            <a:srgbClr val="00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partite; Coordination level (centra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mployers organisations &amp; trade un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ollective Bargaining Agree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560" y="83772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1646b2"/>
                </a:solidFill>
                <a:latin typeface="Arial"/>
              </a:rPr>
              <a:t>Written, legally enforceable contract for a specified period (usually one year), 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1646b2"/>
                </a:solidFill>
                <a:latin typeface="Arial"/>
              </a:rPr>
              <a:t>Between Employers (organisation</a:t>
            </a:r>
            <a:r>
              <a:rPr b="0" lang="nl-NL" sz="2800" spc="-1" strike="noStrike" u="sng">
                <a:solidFill>
                  <a:srgbClr val="1646b2"/>
                </a:solidFill>
                <a:uFillTx/>
                <a:latin typeface="Arial"/>
              </a:rPr>
              <a:t>s</a:t>
            </a:r>
            <a:r>
              <a:rPr b="0" lang="nl-NL" sz="2800" spc="-1" strike="noStrike">
                <a:solidFill>
                  <a:srgbClr val="1646b2"/>
                </a:solidFill>
                <a:latin typeface="Arial"/>
              </a:rPr>
              <a:t>) and Trade Union(s)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1646b2"/>
                </a:solidFill>
                <a:latin typeface="Arial"/>
              </a:rPr>
              <a:t>About conditions of employment 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Wages (including job descriptions and classification) 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Working hours and conditions 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Overtime payments, holidays, vacations, benefit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Additional social security 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Procedures for dispute resolution. 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40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D5D2-2B8A-4736-957D-4528DC4E749A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ollective bargaining, ho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560" y="134100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Framework for wage costs development (TU): Productivity + inflation = basis for negotiations (tax and premium developments are excluded)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Tailored to company or sector circumstances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Trade unions unify their different proposals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Proposals of employers and trade unions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Start of the negotiations….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Fireworks” (wage increment) mostly at the end of the process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43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48D9-57D6-45E1-ABBD-3C70E9FB7734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orks counci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76176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Advisory body, consisting of (elected) employee representatives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Deliberating with – and advising the employer on matters related to the development of a company: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Organisational development / change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Work- holiday schedule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Health &amp; safety issue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Important investment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(strategic) cooperation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Often in bigger companies you can see works councils on plant-level, a central works council and even a European works counci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46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1FB1-30F1-4383-B8E6-5861E9807058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984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National Tripartite level: Socio-economic Counci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76176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Deliberation between central level Employers Organisations, Trade Unions &amp; Government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Subjects are related to broad overall socio-economic policies, for instance: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Social security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Healthcare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Employment policie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Health &amp; safety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Urban planning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Taxation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Doing busines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49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9C9F-1FD9-4C0F-B13C-13C578FF2BD8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8:17:23Z</dcterms:created>
  <dc:creator>Name</dc:creator>
  <dc:description/>
  <dc:language>en-US</dc:language>
  <cp:lastModifiedBy>Henry Leerentveld</cp:lastModifiedBy>
  <dcterms:modified xsi:type="dcterms:W3CDTF">2010-09-21T06:59:49Z</dcterms:modified>
  <cp:revision>162</cp:revision>
  <dc:subject/>
  <dc:title>Bernard Brunhes International</dc:title>
</cp:coreProperties>
</file>